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748-F919-4402-9C1C-592BC396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8FB-4C25-453A-B9C4-934099A0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625-4620-4B69-8CA5-67B295EE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362-402D-4CE4-9A7B-FD8F808D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195-6094-4D34-963A-48204D13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4FD-FF55-4DDB-807A-0635889D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F82-D900-47D0-9B94-8135494C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C37-C567-416E-9825-E8537702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B76-EDB1-4018-B7B8-F31421F6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F7F-5D60-4478-8425-77FDD046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6C2-96F8-443D-A13D-0DCFBE89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206-29AF-4A52-9CE3-DFAC3E2A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2E6E-B0FD-4760-AB31-C04D17DCA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и във мрака откри скръбта ни 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със Словото Си огря ни.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войте ръце се простират към мене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ме водят със нежност при Тебе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мой Господи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/2]</a:t>
            </a:r>
            <a:r>
              <a:rPr b="1" lang="bg-BG" sz="5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9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373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ай светлин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огрей ни със Твойто Слово. Скоро ела всички пеем “слава”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ай светлин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огрей ни със Твойто Слово. Скоро ела всички пеем “ела”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2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666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ият свят се спасява чрез Тебе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амо чрез Тебе ще сме променени.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воето Слово откри радостта ни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че в небето ще бъдем събрани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[ с Теб Господи /2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373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ай светлин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огрей ни със Твойто Слово. Скоро ела всички пеем “слава”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ай светлин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огрей ни със Твойто Слово. Скоро ела всички пеем “ела”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4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666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нес сме събрани да пеем за Тебе, за любовта Ти да пеем хваление. Твоята милост към нас е голяма 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за това ще повтарям с наслада 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[мой Господи! /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373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ай светлин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огрей ни със Твойто Слово. Скоро ела всички пеем “слава”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ай светлин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огрей ни със Твойто Слово. Скоро ела всички пеем “ела”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7000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14:06Z</dcterms:created>
  <dc:creator>TrifonTrifonow</dc:creator>
  <dc:description/>
  <dc:language>en-US</dc:language>
  <cp:lastModifiedBy>TrifonTrifonow</cp:lastModifiedBy>
  <dcterms:modified xsi:type="dcterms:W3CDTF">2005-12-15T20:14:37Z</dcterms:modified>
  <cp:revision>1</cp:revision>
  <dc:subject/>
  <dc:title>Slide 1</dc:title>
</cp:coreProperties>
</file>